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9F59-F703-4918-8FFF-2B0135536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6DFB-C7F9-43B6-98A9-5DCCBFD75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3781-1C08-46F0-8A28-8DC23ECE2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BF97-2882-4520-8ADD-DCD5FCE86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                                                                     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A15E513-92EF-4AEA-8C8B-3301F625B677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972720" y="6244920"/>
            <a:ext cx="771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92D30A84-2C95-45F4-95D1-51FEC33973B9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9A1ED4-27B6-4A59-A13B-27CAE6D5C43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2396B65-9F01-44CF-A3AA-E8C00C5107DA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A3B2E3-EFF4-4714-8D55-6DBE703BF4A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6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86A872-1482-4B53-B49A-177F690B376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19E822A1-F83F-4F58-9E3A-D31175247A86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84369B-EF4E-412F-BD5C-576D2C8AC06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89000" y="5762160"/>
            <a:ext cx="876600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: Finding and Organizing Information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aving Files 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907920" y="1600200"/>
            <a:ext cx="777888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Butt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v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a fil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logical and descrip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p to 255 characters in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contain these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 \  :  ?  “  &lt;  &gt;  |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7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AF59142-8F83-4248-A7A5-066D67D5909C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le Path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907920" y="1600200"/>
            <a:ext cx="77788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hown in the address bar of your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exact location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folder, subfolders, and file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9"/>
          <p:cNvGrpSpPr/>
          <p:nvPr/>
        </p:nvGrpSpPr>
        <p:grpSpPr>
          <a:xfrm>
            <a:off x="1727280" y="4151160"/>
            <a:ext cx="5821200" cy="1033200"/>
            <a:chOff x="1727280" y="4151160"/>
            <a:chExt cx="5821200" cy="1033200"/>
          </a:xfrm>
        </p:grpSpPr>
        <p:sp>
          <p:nvSpPr>
            <p:cNvPr id="384" name="Text Box 17"/>
            <p:cNvSpPr/>
            <p:nvPr/>
          </p:nvSpPr>
          <p:spPr>
            <a:xfrm>
              <a:off x="1727280" y="4151160"/>
              <a:ext cx="582120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s\Computers\Chapter 2\Moon 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1800360" y="4762440"/>
              <a:ext cx="272880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e file 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7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4BCA686-7C28-41E3-9C85-7C70E2A5303A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6:45Z</dcterms:created>
  <dc:creator>Jean Bissell</dc:creator>
  <dc:description>Copyright 2006 South-Western/Thomson</dc:description>
  <dc:language>en-US</dc:language>
  <cp:lastModifiedBy>Lenessa Keehn</cp:lastModifiedBy>
  <dcterms:modified xsi:type="dcterms:W3CDTF">2011-03-25T04:44:38Z</dcterms:modified>
  <cp:revision>52</cp:revision>
  <dc:subject/>
  <dc:title>Slide 1</dc:title>
</cp:coreProperties>
</file>